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223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3124080" y="656100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JE Campagne Branville 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79280" y="836640"/>
            <a:ext cx="861084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66760" y="652464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440" y="34920"/>
            <a:ext cx="106848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542880"/>
            <a:ext cx="3552840" cy="339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52720" y="62064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ig 5 hep-ph/06012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35280" y="3068640"/>
            <a:ext cx="5316480" cy="3295800"/>
          </a:xfrm>
          <a:prstGeom prst="rect">
            <a:avLst/>
          </a:prstGeom>
          <a:ln w="9360">
            <a:solidFill>
              <a:srgbClr val="0078f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2125440" y="58770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rom Ma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13:54:28Z</dcterms:created>
  <dc:creator>J.E Campagne</dc:creator>
  <dc:description/>
  <dc:language>en-US</dc:language>
  <cp:lastModifiedBy>J.E Campagne</cp:lastModifiedBy>
  <dcterms:modified xsi:type="dcterms:W3CDTF">2006-05-16T13:54:53Z</dcterms:modified>
  <cp:revision>1</cp:revision>
  <dc:subject/>
  <dc:title>Diapositive 1</dc:title>
</cp:coreProperties>
</file>